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A816D-31A3-4F42-B775-7C3AACE96D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46781-74C0-41EE-A778-6FCADE0BA9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F190F-EB5F-46EA-A1A0-CDD1E08E5E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724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836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612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724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836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ED3B5-B2DB-47A7-A36F-297B772D90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7223C-074C-49E0-8CA0-5572691794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64D45-258D-4244-845E-334570E04D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549C8-B67E-40FE-B54B-38CD2562E6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A970B-34FB-47C6-BE96-0344B4EFAE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1160" y="173160"/>
            <a:ext cx="7599600" cy="73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5C656-9331-46AC-B0A0-1BAD78AE51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75539-A772-43C2-99B0-891159945B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FEE32-337B-4B67-89A1-86B69B3D77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B7EA4-2AF9-44CC-BD1E-71745634ED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4192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B0F3E86-D5AC-4AF4-8C76-EB18B06518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1" marL="287280" indent="-172800">
              <a:lnSpc>
                <a:spcPts val="2500"/>
              </a:lnSpc>
              <a:buClr>
                <a:srgbClr val="ffffff"/>
              </a:buClr>
              <a:buSzPct val="68000"/>
              <a:buFont typeface="Wingdings" charset="2"/>
              <a:buChar char="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3" marL="16002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4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5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6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le-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" name=""/>
          <p:cNvSpPr/>
          <p:nvPr/>
        </p:nvSpPr>
        <p:spPr>
          <a:xfrm>
            <a:off x="-271800" y="6232680"/>
            <a:ext cx="342036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====!</a:t>
            </a:r>
            <a:r>
              <a:rPr b="0" lang="de-DE" sz="3500" spc="-1" strike="noStrike">
                <a:solidFill>
                  <a:srgbClr val="f00580"/>
                </a:solidFill>
                <a:latin typeface="TeleLogo"/>
              </a:rPr>
              <a:t>"</a:t>
            </a: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§=!Nova§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EU-Project SHAMAN</a:t>
            </a:r>
            <a:br>
              <a:rPr sz="4400"/>
            </a:br>
            <a:r>
              <a:rPr b="0" lang="de-DE" sz="3200" spc="-1" strike="noStrike">
                <a:solidFill>
                  <a:srgbClr val="ffffff"/>
                </a:solidFill>
                <a:latin typeface="Tele-Antiqua"/>
              </a:rPr>
              <a:t>Security for Heterogeneous Access in Mobile Applications and Network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ele-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History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109000" cy="3562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 fontScale="79000"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SHAMAN is the successor of the EU-Projects ASPeCT (Advanced Security for Personal Communications Technologies, ACTS 095) and USECA (UMTS Security Architecture, ACTS 336)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Both projects delivered valuable input for the UMTS-standardisation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Involved parties in the USECA-Project: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erator: Vodaf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nufactures: Siemens, Panasonic, Giesecke &amp; Devr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Katholieke Universiteit Leuv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spcAft>
                <a:spcPts val="601"/>
              </a:spcAft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1 – Security for global roaming in IP-based mobile      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networks with heterogeneous access network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secure protocols for heterogeneous IP-based access networks, e.g. Wireless LANs, Bluetoot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2 – Unified Security architecture for future mobile terminals and application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velopment of an Security-architecture for mobile terminals as well as for the service and application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68580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3 - Public Key Infrastructure for next generation mobile telecommunication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Interoperability Requirements for PKIs in future heterogeneous 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rvey of usage possibilities of PKI in mobile networks, e.g. for Core Network Sec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4 – Security module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dentification of components in mobile terminals, which need physical and cryptographic protec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5 – Prototypes and demonstrator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6 – External relations and liaison with standards bodies </a:t>
            </a:r>
            <a:br>
              <a:rPr sz="2600"/>
            </a:b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9T12:03:46Z</dcterms:created>
  <dc:creator>Bernd Adams</dc:creator>
  <dc:description/>
  <dc:language>en-US</dc:language>
  <cp:lastModifiedBy>Bernd Adams</cp:lastModifiedBy>
  <cp:lastPrinted>2000-05-29T14:30:08Z</cp:lastPrinted>
  <dcterms:modified xsi:type="dcterms:W3CDTF">2001-03-07T13:53:07Z</dcterms:modified>
  <cp:revision>6</cp:revision>
  <dc:subject/>
  <dc:title>Das EU-Projekt SHAMAN Security for heterogeneous access in mobile applications and networks </dc:title>
</cp:coreProperties>
</file>